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747-8677-4AC7-8A23-A9591D94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5B6-A33E-41F2-9E9F-CE82906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4E0-D7B3-4A51-86D1-583CD290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4A9-C9C1-45E6-A8CF-40FCDDFF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62B-675A-4C87-B332-57B03CD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514-8B02-44DD-8543-CEE6C1C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2B7-3264-41F6-A06A-486C88BC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E05-5E95-4B60-9DF5-E042ED1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266-628A-4475-BCC4-754ECDB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521-3FB5-4EB5-B869-952154C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35F-D802-4AE3-BAA2-54D18E6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808-150A-48F0-B0A6-61ADDFF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D61F-1269-4859-B1B2-AE1B1A04E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5:57:53Z</dcterms:created>
  <dc:creator>Grupo Editorial</dc:creator>
  <dc:description/>
  <dc:language>en-US</dc:language>
  <cp:lastModifiedBy>Grupo Editorial</cp:lastModifiedBy>
  <dcterms:modified xsi:type="dcterms:W3CDTF">2001-11-14T16:01:35Z</dcterms:modified>
  <cp:revision>1</cp:revision>
  <dc:subject/>
  <dc:title>Sin título de diapositiva</dc:title>
</cp:coreProperties>
</file>